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531-7573-4C9E-A38D-CA0C9ACA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D60-1A6D-4081-9E68-670F1C3B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1B408-3D0D-42B7-9402-4D32BA09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53926-BA0F-4015-B7C0-81BE9AC6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D6FA2-8425-4343-A348-79143C97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B6289-5766-425A-85EC-59C0AC0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2B1D8-FC2F-4531-9951-79754D9D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4262D-FDC6-4302-8F9C-340C80D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11888-00DA-487A-ABF6-EC0DE8B1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B9BFB-51D8-488F-8FA4-7E02DDC8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F1471-A7C1-4F2B-B360-7C7F8C48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FB6DA-AF09-4F3C-90D4-83080762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62A-FCF8-48BF-B284-C53676B5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E316C-0C4D-44CF-84D5-E3E6BF9E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5850E-020B-4D62-9EC7-4076E9F3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547FA-C791-4538-85A2-C1B1F421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FEC51-EA61-4425-A9A8-06C50FA0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20C7A-9751-4C41-A4B6-1804BD8A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5B9B5-587A-417E-9E56-B49BE243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AB4A2-E841-4601-8672-5832D6B8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D4C4C-1DEB-4D2C-A576-25A8D22D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401AA-4FBA-4221-A1A1-2F8BE05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BF746-0D78-4612-9292-3036A69B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DC5-BF20-481B-B5F2-437600D5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9A497-43B9-4301-BE84-985142C8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EB44-734C-4650-A03C-56475C4B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3BE3-6DC5-4101-9170-5CFFECD8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6872BF-F4BB-4703-A918-F8BA54D4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FB8C34-9FAB-4E76-9E02-C19038F4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09EB0A-609E-4C99-83B2-D756B34A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F28835-E317-4587-97B7-952E68F7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06736D-DE8D-4C13-897B-4D022051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DE61-7561-45EB-B412-F21A4380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A13020-55C5-455A-B36B-81551ACE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D9A521-B3E7-4D79-AE12-89BFAA6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795673-A184-4EDD-974C-691BEBC4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DC4FC8-F999-4537-AC79-D1F07B4D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D931C8-3B4C-46AC-8D35-FBCA8C7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433E77-103E-479E-BE1F-F833379A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1C76C8-07E3-4919-9FB9-9BA5911C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3DC26B-D40B-4105-8D7F-7289B839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38B252-49AA-496D-97F0-428FB228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51DC8A-F0F2-468E-8574-E8869736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26ED-F27F-4EE2-8306-0187597A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B8236B-5205-42D1-9164-65B78D4C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9E473B-829C-45AE-BB5B-EFA805B1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23DA31-7BBB-4070-A25B-C32DA7A5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8098A8-0BFA-49F9-9938-0D02462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FB325B-DBB2-4650-AE65-7F1CEA8F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CE656A-5FE7-4D01-BFF3-103D6096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02625E-0DCB-4FBF-9DC8-8CF0F733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907316-2D7F-4E00-A489-9D93B6F2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8902EE-E421-468E-9851-D89CCC6C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47397B-51D0-4666-BEE2-F754CFBA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4C8A-BF43-4C1F-9D56-DD7892A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AD1037-6967-40A8-917D-8EC649DD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24968D-5AA2-4F54-B3E5-B6F6F0B3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F0191E-C1D0-490B-9D93-5AB134EF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BC0C44-3997-44C4-BE68-817AB75D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780A46-8285-4C89-821D-614200F5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6D3A92-D220-4B78-8A26-A6B1C1EA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9680C6-7C4A-4D69-9931-43AEA5A4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8F5C15-E0AD-496B-9E92-004D3BF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C8A5B4-C3EA-4623-9A36-DFDF9FBB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AA3F48-B689-436F-BBF4-3C31BEEB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B7D-994F-4FBD-BF22-39A1F68D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E65D30-BB27-4585-B7E5-7C2C3D27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E91ADA-6194-4D37-A211-13E932B2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B6699E-C47B-495A-BF2B-69412FD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25645D-B6B7-4AAE-BF27-46D72531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2D4676-A4D6-4F02-80A3-6EAC8A17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CD6D0F-B311-4D85-A7D1-64A129C0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B1DD57-2661-4108-812E-47B81F31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4A1383-9537-440C-A67F-4DA66D65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ED5851-D2AC-496E-927D-EC4C2735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A9B74E-C605-4C4F-B55F-94825942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F7DA-5B59-4796-A14D-3749BC4A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32706F-5CDA-488D-8A52-8D237389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758DB7-C922-4ACC-BDCD-56807EA6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361E9C-1C4B-447B-A25F-F971C1B0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97D-F33B-4BA0-A6E6-C5FA6D8D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4977-9663-46F0-912B-5F9BF1E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12D0-5D31-481C-AADD-FD3EB5A4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7C68-0317-494F-8D5F-53492C22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9EFE-3430-43AF-88C9-78086693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A150-4AE0-4CB3-8722-E2DC5F7A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34A6-02A3-409E-B4B1-1D54195A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1A9F6-3D61-4649-812F-0E42090F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4338-A93C-4677-836F-946A5363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92C3-5094-47D7-AB12-293FC205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21E4-5D5F-4768-8029-E05EEBDB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9CD-3985-44C4-92F3-BD97625A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7EF5-EFB2-4AF8-8D28-0258D7F4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C481-75FC-45A4-8453-02DFE23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7D2A-4203-49AA-9267-2BD0298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0A82-F1EB-48C6-84D7-0CAEC700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800F-E24F-4F25-AFCD-8F467238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5A71-26BB-4627-AB5C-DD9616A6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2835-2C1A-4ABD-9C17-A40F0902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F4825-F9F1-47E5-BADC-299E925A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E37C-779E-4020-8123-F6C48327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4B43-0B7D-4CC2-A0C3-5BEAE82F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A22-0649-4080-A323-2636405B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D409-D156-401A-9CA3-841D008F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22D6A-A8E0-4AD8-BFF5-D6353B01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C675-BA2E-4FA2-9753-B346DB55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98F3-5BA9-433A-AE11-D268B8FF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6002-40CC-4C97-B372-51CD950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7085-01C8-44A0-A820-B505FBA1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1897C-D81B-4A73-A897-4BAEF4CE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119A-DF84-42B3-B645-B9E8D3A8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860F-4C99-465F-8FBE-7BFD5925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9A960-5D05-4029-A919-BABD55C3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48A-FC4A-4256-8DC9-EC610F33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4590E-7F87-4199-82F7-17AD989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586F8-B188-442D-B9BE-A20A8421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6682-BDA6-4A44-A42F-95C0063F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47A4-9435-4307-93F6-E077D577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9DC1-30DC-4C06-94D6-2866B910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B0711-89ED-4A69-AE9C-3DF667D2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0286D-8A4D-495D-B4F4-4679F76F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9667-61F6-47A9-92A8-09B3024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E6DE6-EA78-46AF-B479-690C458A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B2B0-D3A6-4D46-8AEF-D51E54C3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56F-832C-43AC-B9AE-1994A5DA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F6152-4E28-4268-93A6-A46DB5B0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8ED3-B47B-45C1-BBCD-20D3FECD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D09C5-E7A6-45E7-9BCE-B30C14B4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970DC-7A35-426D-A599-788E6A8F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50A78-003F-4B3B-9B19-2C706309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9365-BDAC-43F7-ACF5-482020B6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DE697-1D7F-4803-A4FE-3AE63CA1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51E33-20EA-431B-8457-D7995515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4E6E3-BA1A-4EA7-877A-211609D2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49989-224A-4E18-81F4-BB521BBA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867-C653-4DC6-818D-8EEB2C9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F931B-0969-4581-AAA7-DB6A3332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819E1-3D80-4883-8C1E-F29E66A9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6D54-3E1E-4E45-BFCF-2E940BED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CDB7C-63F5-4004-95EA-0B2724A4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57822-6321-441F-9858-6A7D5B67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3682D-17B0-4BDF-ADA8-5E096F67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B95EC-F833-4F2C-B460-CE8251AD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2A6A-83CE-457B-8A5C-F70FEF4D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1F4AB-6931-4BF5-BF0E-554E5467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EE20-B007-4B46-A454-32592F7F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BB9-FE19-4A85-AF53-C67E9A03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1C9F6-3164-4A13-8E27-AC2B9DE0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72CCF-F9D8-4398-A623-7E320A98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89DD2-2E80-4767-8D7F-7DD7F0D8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C03F-21F3-4D9B-84DD-16C3B0E3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08EE9-6E5E-418B-A0AE-5D60A8A5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556A-4C3B-4E77-86F3-2DD10871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018CE-6861-45D5-A908-6E281701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D98C8-AAA8-466E-837A-B10A7D24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5AA77-81A3-448C-AC0D-74DAAEC5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B0BD-7FE6-43BE-B676-0E4B93D0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726-B13A-4E1A-8BD0-60B3442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8CC0D-F427-4F46-A5C2-C11F453C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79D4D-EC94-4AF7-A989-827622A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95160-871F-4198-B6E0-A9573E24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69A7F-7A2F-46FD-98A8-3AB4E02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39052-7334-44A3-86DA-701B1AD9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C2A2B-D2B4-4D84-A76C-104C5791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79C25-24DB-43EC-BCE9-0F8E23E1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A6E0A-E4D8-4696-A8EA-3C3CEE25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88ADB-6712-4CC4-86EE-A3022EC6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2961C-FFE6-4361-91DB-72F93B5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ED31-90F3-4E93-866C-3A931F58DF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6EB0-3A8D-40E6-BFE4-AD0D26A373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F844-F7B0-4C84-99E8-06B2780EDD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4E36-6F97-40A0-B89F-75B07B85F8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49DF-171F-46A1-BE9A-01C8DD811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7B98-91F7-4B01-B529-6CE586C770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5FCF-4D93-4783-97D6-7EC3288A2F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DE1F-0A7E-44C6-81D7-1FB700F042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1E4B-4ECE-4F80-A80B-651ADB3C50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BBA6-1805-4680-8124-A6C4D2213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7396-B10A-4410-B656-6ED671537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9E12-D450-41DC-8868-83752D699E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A0A-04F0-4E77-A586-FF1C6C2906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58B8-E507-41B7-B86F-04C85CA4A4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nez un tableau et complétez les phrases suivantes avec le pronom qui convient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07" name="Picture 5" descr="j0149481"/>
          <p:cNvPicPr/>
          <p:nvPr/>
        </p:nvPicPr>
        <p:blipFill>
          <a:blip r:embed="rId1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8" descr="MPj03142650000[1]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inne fait du shopping avec sa copine Célia. Trouvez le bon pronom pour compléter ses phrases 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11" name="Picture 5" descr="j0149481"/>
          <p:cNvPicPr/>
          <p:nvPr/>
        </p:nvPicPr>
        <p:blipFill>
          <a:blip r:embed="rId1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8" descr="MPj03142650000[1]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J’achète des basket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mes cous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6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9"/>
          <p:cNvSpPr/>
          <p:nvPr/>
        </p:nvSpPr>
        <p:spPr>
          <a:xfrm>
            <a:off x="1676520" y="44956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_____ achète des bask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Box 6"/>
          <p:cNvSpPr/>
          <p:nvPr/>
        </p:nvSpPr>
        <p:spPr>
          <a:xfrm>
            <a:off x="2356560" y="441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e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Je donne une ceintur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toi. (you fa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2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9"/>
          <p:cNvSpPr/>
          <p:nvPr/>
        </p:nvSpPr>
        <p:spPr>
          <a:xfrm>
            <a:off x="1676520" y="44956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_____ donne une ceintu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TextBox 6"/>
          <p:cNvSpPr/>
          <p:nvPr/>
        </p:nvSpPr>
        <p:spPr>
          <a:xfrm>
            <a:off x="2403360" y="441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Nous achetons une jup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notre cousine Christel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8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9"/>
          <p:cNvSpPr/>
          <p:nvPr/>
        </p:nvSpPr>
        <p:spPr>
          <a:xfrm>
            <a:off x="1676520" y="44956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_____ achetons une cein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TextBox 6"/>
          <p:cNvSpPr/>
          <p:nvPr/>
        </p:nvSpPr>
        <p:spPr>
          <a:xfrm>
            <a:off x="2939040" y="4419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685800" y="205740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Célia prend des lunettes de soleil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ma mère et moi (to us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4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9"/>
          <p:cNvSpPr/>
          <p:nvPr/>
        </p:nvSpPr>
        <p:spPr>
          <a:xfrm>
            <a:off x="1676520" y="44956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élia _____ prend des lunettes de sole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TextBox 6"/>
          <p:cNvSpPr/>
          <p:nvPr/>
        </p:nvSpPr>
        <p:spPr>
          <a:xfrm>
            <a:off x="2752560" y="441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J’achète des gant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mes soeu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0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9"/>
          <p:cNvSpPr/>
          <p:nvPr/>
        </p:nvSpPr>
        <p:spPr>
          <a:xfrm>
            <a:off x="1676520" y="4495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_____ achète des g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Box 6"/>
          <p:cNvSpPr/>
          <p:nvPr/>
        </p:nvSpPr>
        <p:spPr>
          <a:xfrm>
            <a:off x="2280600" y="441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e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Célia achète un pantalo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sa soeu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6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9"/>
          <p:cNvSpPr/>
          <p:nvPr/>
        </p:nvSpPr>
        <p:spPr>
          <a:xfrm>
            <a:off x="1676520" y="44956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_____ achète un pantal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2253240" y="4419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7:05:15Z</dcterms:created>
  <dc:creator>Mr. Smith</dc:creator>
  <dc:description/>
  <dc:language>en-US</dc:language>
  <cp:lastModifiedBy>Administrator</cp:lastModifiedBy>
  <dcterms:modified xsi:type="dcterms:W3CDTF">2011-11-28T18:43:28Z</dcterms:modified>
  <cp:revision>109</cp:revision>
  <dc:subject/>
  <dc:title>Allez, viens! – Level 2</dc:title>
</cp:coreProperties>
</file>